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F10-8EF6-43D5-A947-365A77F7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747-356E-449E-AED4-51D29C03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CC1-DFA7-4BD1-9A10-95FCB78B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291-2255-4DFF-B22C-51AAF211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0C4-A65D-4AB5-BCB6-714292B4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E893-DE02-437C-A2D7-B2ABBAB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C79-FA64-4A96-A92F-7CDFFD3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6CE-D3E9-4CD2-94B2-09AF81D1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C92-4AAD-49AD-AE45-E170662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3679-999D-4037-8542-83604282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C2B7-4BC4-420F-9AF9-E333877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CFA-6066-4B90-90F8-A7FA917C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AEEB-1C9C-4765-B005-D63CE80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0863-F8DD-4367-A87E-8775DFF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86F-E303-4BC9-8434-576694D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4419-1275-40DF-9070-5C2A7B8A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BCF-02AC-4333-A87F-7712B095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7FB-7D9B-45CA-9CFD-2443B74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EF3-23AB-4369-961A-AB5C40D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660-5C35-45A7-8A9C-647872C9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C1D-8C7A-4EE6-9FD0-903E466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2C3-4712-409A-A9A5-BBA74B5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17B-B0E6-41B2-A136-55EFFA0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76A-471C-4CAD-9F93-93DB793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A842-4514-481F-82C5-8A0BF78EB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EAA-BA62-401B-9352-187FDA5C2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alsts probācijas dienesta individuālais projekt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r. LV 0024 “Latvijas probācijas un ieslodzījuma vietu sistēmas personāla kapacitātes celšana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3. aktivitā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mācību programmu izstrādes nepieciešamīb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Izveidot vienotu mācību procesu Mācību centrā un ieslodzījuma vietā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Aktualizēt esošo programmu satur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Optimizēt mācību proce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ielietot vienotas, mūsdienīgas apmācības met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amazināt mācību procesa izmak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Jaunāko virsnieku penitenciāro zināšanu trūk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fesionālās tālākizglītības programmas “Ieslodzījuma vietu apsardze”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 līmeņa profesionālā kvalifikācija “Cietuma jaunākais inspektors”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brīd realizējamās program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zstrādātā mācību program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līmeņa profesionālā kvalifikācija “Cietuma vecākais uzraug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– 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- 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 un ieslodzījuma vi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mācības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191120"/>
            <a:ext cx="2590920" cy="198108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ksām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ācību centr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676520"/>
            <a:ext cx="1905120" cy="14475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ietum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86600" y="1676160"/>
            <a:ext cx="1752840" cy="1447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4343400"/>
            <a:ext cx="2209680" cy="1600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2057400" cy="15238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676520"/>
            <a:ext cx="1752840" cy="144756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75248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fesionālās kvalifikācijas pilnveides programma virsniekiem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480" y="1746000"/>
            <a:ext cx="6782760" cy="4791240"/>
            <a:chOff x="762480" y="1746000"/>
            <a:chExt cx="6782760" cy="4791240"/>
          </a:xfrm>
        </p:grpSpPr>
        <p:sp>
          <p:nvSpPr>
            <p:cNvPr id="229" name="_s40990"/>
            <p:cNvSpPr/>
            <p:nvPr/>
          </p:nvSpPr>
          <p:spPr>
            <a:xfrm flipH="1" flipV="1">
              <a:off x="2801880" y="3458520"/>
              <a:ext cx="676440" cy="39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40989"/>
            <p:cNvSpPr/>
            <p:nvPr/>
          </p:nvSpPr>
          <p:spPr>
            <a:xfrm>
              <a:off x="1263960" y="2449080"/>
              <a:ext cx="172836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0988"/>
            <p:cNvSpPr/>
            <p:nvPr/>
          </p:nvSpPr>
          <p:spPr>
            <a:xfrm flipH="1">
              <a:off x="2467800" y="4372920"/>
              <a:ext cx="845640" cy="13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40987"/>
            <p:cNvSpPr/>
            <p:nvPr/>
          </p:nvSpPr>
          <p:spPr>
            <a:xfrm>
              <a:off x="7624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cīn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40986"/>
            <p:cNvSpPr/>
            <p:nvPr/>
          </p:nvSpPr>
          <p:spPr>
            <a:xfrm flipH="1">
              <a:off x="340380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40985"/>
            <p:cNvSpPr/>
            <p:nvPr/>
          </p:nvSpPr>
          <p:spPr>
            <a:xfrm>
              <a:off x="2163960" y="529344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litār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40984"/>
            <p:cNvSpPr/>
            <p:nvPr/>
          </p:nvSpPr>
          <p:spPr>
            <a:xfrm>
              <a:off x="452844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40983"/>
            <p:cNvSpPr/>
            <p:nvPr/>
          </p:nvSpPr>
          <p:spPr>
            <a:xfrm>
              <a:off x="4415040" y="529344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iholoģ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40982"/>
            <p:cNvSpPr/>
            <p:nvPr/>
          </p:nvSpPr>
          <p:spPr>
            <a:xfrm>
              <a:off x="4993920" y="4371120"/>
              <a:ext cx="846360" cy="14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0981"/>
            <p:cNvSpPr/>
            <p:nvPr/>
          </p:nvSpPr>
          <p:spPr>
            <a:xfrm>
              <a:off x="58168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konom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40980"/>
            <p:cNvSpPr/>
            <p:nvPr/>
          </p:nvSpPr>
          <p:spPr>
            <a:xfrm flipV="1">
              <a:off x="4826520" y="3458160"/>
              <a:ext cx="679320" cy="38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40979"/>
            <p:cNvSpPr/>
            <p:nvPr/>
          </p:nvSpPr>
          <p:spPr>
            <a:xfrm>
              <a:off x="5315400" y="244728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dagoģ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0978"/>
            <p:cNvSpPr/>
            <p:nvPr/>
          </p:nvSpPr>
          <p:spPr>
            <a:xfrm flipV="1">
              <a:off x="4152600" y="2989440"/>
              <a:ext cx="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40977"/>
            <p:cNvSpPr/>
            <p:nvPr/>
          </p:nvSpPr>
          <p:spPr>
            <a:xfrm>
              <a:off x="3288240" y="174600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rid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40976"/>
            <p:cNvSpPr/>
            <p:nvPr/>
          </p:nvSpPr>
          <p:spPr>
            <a:xfrm>
              <a:off x="3288240" y="3613680"/>
              <a:ext cx="172872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enitenciārā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amatzināš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ldies par uzmanīb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a.Andriksone</cp:lastModifiedBy>
  <dcterms:modified xsi:type="dcterms:W3CDTF">2010-12-15T06:59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